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5D2C2-0A7E-4A58-A66E-32A8E7B6F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FAFD7-3799-40E6-AA52-120AA9DC2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AFD0D-918F-45BF-BCB6-C0FAA10BC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E86CD-BFCE-48FD-B805-921FCFC82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9EAEE-2FFD-4827-A73D-D972B4D8E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09701-F9AC-48FA-BC27-CF6E3B4C2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E94EF-1B84-4615-8BE3-70A93D33D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33163-0AEC-4D4D-9D4C-A4786DCE6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8D55F-4045-4956-89B7-513DC67C1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CD3D7-4C15-4D3A-8455-E7A850759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B2C4C-4B1A-46D5-9B4B-0A44CB426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D919C-E7C3-46CB-941B-0147D7D14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AD848-6BAA-4653-B6D8-03A1209C6A73}"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84280"/>
            <a:ext cx="7772400" cy="345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Population Issue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MEDC’s: Land Reclamation &amp; Drainage</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untries, such as Japan and the Netherlands have tried to increase the land available for their growing urban areas by reclaiming land from the sea and draining marsh land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ities, such as Kobe in Japan now have large artificial islands that are used for industry, just off their waterfront.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the Netherlands a huge area to the East of Amsterdam has been reclaimed, using long dams to reclaim islands called Polder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oth ideas have been successful in allowing urban growth to continue on previously un-used area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MEDC’s: In-Migration</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developed countries have tried to boost their declining populations by encouraging the in-migration of migrant workers into their countr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very good example is the Turkish "Gasterbeiters" (Guest Workers) who regularly moved into Germany during the 1980's and 1990'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were encouraged to move in to the country for short periods to fill jobs that were not being taken up by German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this scheme has slowed in recent years as it has begun to cost Germany a lot of money in benefits for Turks who have decided to stay, as well as jobs being lost due to global recess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LEDC’s: Birth Control</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most famous example of a country using a birth control scheme is that of China.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s the population sky-rocketed, the government realised that something had to be done otherwise there would be not enough resources to cope.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the 1970's and 1980's agricultural improvements meant that the country became self-sufficient and, most importantly, the country was producing the best balance of nutritious foods.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owever they also decided to " during the 1980's.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s was aimed at slowing the rapid population growth that already taken the population of China over 1 billio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LEDC’s: Birth Control</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uples only having one child gained huge benefits such as free schooling for their child, tax incentives, better pensions, better access to state housing schemes and increased family allowance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towns and villages had government appointed health workers, who made it their business to know when someonegot pregnant.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y would then help them through the pregnancy and put huge pressure on them not to have any mor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are huge social pressures not to have more than one child.</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general the scheme is working well in the urban areas, however in rural areas couples are still having large families to allow them to have workers for the farm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are also reports of abortions and that baby girls have been killed by couples wanting one boy onl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LEDC’s: Irrigation</a:t>
            </a:r>
            <a:endParaRPr b="0" lang="en-US" sz="4400" spc="-1" strike="noStrike">
              <a:solidFill>
                <a:srgbClr val="000000"/>
              </a:solidFill>
              <a:latin typeface="Calibri"/>
            </a:endParaRPr>
          </a:p>
        </p:txBody>
      </p:sp>
      <p:sp>
        <p:nvSpPr>
          <p:cNvPr id="51"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rrigation schemes have been vital in increasing the agricultural yields of many areas of the developing worl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all-scale schemes that benefit a community or village seem to be the most successfu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rger schemes that involve huge dams and the production of HEP often leave the country with huge debts to pay off, which often means they are even more dependent on MEDC's for hel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05:22:16Z</dcterms:created>
  <dc:creator>Dell_02</dc:creator>
  <dc:description/>
  <dc:language>en-US</dc:language>
  <cp:lastModifiedBy>Dell_02</cp:lastModifiedBy>
  <dcterms:modified xsi:type="dcterms:W3CDTF">2011-01-25T05:30:03Z</dcterms:modified>
  <cp:revision>1</cp:revision>
  <dc:subject/>
  <dc:title>Population Issues</dc:title>
</cp:coreProperties>
</file>